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A3C8-1A43-4268-B88A-EA4F5547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EE1-C1B5-4D8A-8BC9-7D656B6B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393C-0CE5-4299-A5D3-E8D8157D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713-5613-4143-82DC-BA1AB38E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85B6-0BD8-498F-8650-C6E0E7AB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CC3D-F79E-477E-8B42-63363A61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38AF-A726-4725-82D1-CCCED878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97EE-2D77-40DE-9DB2-E5E11D15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EF90-C542-4418-813D-ADE7D965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443B-2975-4C58-932C-8284600B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0F21-1CD8-4F1E-8D44-67DFDA3F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3EF-6DBA-44F0-9A84-29A3497A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41E9-F240-43F9-B39C-9987DA77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EB2D-378F-4958-B0C8-C24B4CE4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88CB-3402-4EB4-AB1E-A7F55065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9338-1429-4D9F-898A-FE3B04DF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0A06-DF90-4A09-926D-37B418B7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95FF2-81E6-4139-9257-7A47BCE7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E0F1B-A783-48F4-8447-25F2343E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725DC-FA9A-4596-AEE7-41955AC1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8E4F-E671-4A23-A4C8-2F715EBB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463D7-59F7-4326-ABE4-811AE9CC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603-3FB5-435B-A944-24C8E06F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E94DC-A7B5-437A-A33B-AB452BD4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58F8-4CB1-43FD-BECB-3E07939F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62B55-1FC5-4051-84F8-B4D1B1B1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938BE-DD96-44C3-82A0-EC3A96B9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C9AFF-34B6-4424-B806-3D5F0BB7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0CAA9-E5A0-4121-B27C-C4FAD9C5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E1D27-70ED-41CF-A61B-4243795B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04E48-7EB5-416C-940B-0AA17BDE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6FC1D-F8CB-4843-A2EE-9FA153C8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0B37B-0DD1-4A32-B960-6BBB7CAC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46B-4475-46BF-B170-86359414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E302B-CE81-4623-972F-C26B1867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0D88D-9871-4177-8C04-D6F3E5FF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C67CB-EEA8-4D08-B4E0-233B496E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0797B-1BAD-4F63-B312-E063D54A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B0CB0-DF1C-490C-AB7F-9F23A1C7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82C66-2867-455B-AACC-BA358B6F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3B808-980F-4C4D-A875-AE9638FA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BC804-EE32-46D1-B891-8E0B8EBD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853E2-5426-4698-A35E-052C08CE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D23A2-166A-4087-90AD-127DDD30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342B-4C0C-4CEA-82BE-44A4B3A8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3C21C-340B-420E-BA93-14B4C1C5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57186-1516-4A7A-B5CC-A9556A32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67CC1-A3E8-4D13-A89C-2C78D72D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2C8D4-386D-44B9-8A5D-22A03B7F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0C9AC-21DE-4161-A903-1645A521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94CA4-7FC8-4714-8BF7-CB49B522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4E90A-B7E7-4D93-98BB-34289737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20668-5393-4AFC-8B6A-0CA22BD1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D259B-D5B8-47CC-921F-41CBEF90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BFBA8-2945-44A2-BD22-6410BF7C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77B-3321-4E36-A60A-BCC9A45B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F6D6B-A5A4-46B3-BD71-84F35940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99A71-0B63-4DDD-9385-CCE408A4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4079F-CD10-4FAA-ABF5-2D4CF3D6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D3EA7-1E58-44DD-8C21-FDADB036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4DC54-C6FF-4485-849D-3DAF8A36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52B65-D220-492E-93B3-3E7CAD5D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7E4F6-A258-4C61-AABE-190675BE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B5563-019C-4078-9C9A-29836BB6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3919D-3A70-463B-987A-7371163D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920B3-D5CC-476B-90A1-D715D31D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2B50-2200-4101-A381-CBC4F4CE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ED665-37AD-4F12-A78C-CE8087CF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5D57D-737F-4C94-93C0-A35DE6A0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23CFA-292C-4E83-BE26-79D776F7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0D72F-065F-43C2-BA77-A6A27C2A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62B5D-4E89-440B-95B1-6E86401C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B5AE9-567D-4133-9B37-1F7970B6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CC9B7-9C6F-4563-B03A-D2B40E2D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12BD1-DCF1-459A-A6CF-3400C44E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B81E6-8158-4BA2-B74E-CF7C9561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F7336-C539-4452-83B5-09A9914A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50D-5309-42B5-A3D8-CFD0CC0C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19840-6371-4C02-95A1-D625C1A7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7C88F-8674-4339-9136-7B47F7C8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8194E-8CA9-48AA-9355-09432466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E8C05-E027-47CE-A6EE-8D5220DE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D73EF-542E-4CDF-B9C7-03CE3163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404A-2760-44CE-A0B8-6E70B4B3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CF4B-2FB1-4FF7-A65B-715DB43C1FC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C145-755E-45F4-91CB-2ABD6AC783C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9C0F-9636-4856-939A-FD9CCE43BA3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41AB-6A79-4082-83A3-0C39DA3A5AB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91B5-1AFC-4CF9-AF61-4269DB5B928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0332-9CA3-49CE-8300-A9AC76E7C07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3715-6D4F-4759-9671-B336D70F1DF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680" y="1406160"/>
            <a:ext cx="7848720" cy="27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ndara"/>
              </a:rPr>
              <a:t>SS8 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Candara"/>
              </a:rPr>
              <a:t>Forms of Culture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the physical objects produced and or used by the society they belong to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Material Culture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en-US" sz="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refers to non-physical elements of a culture. It includes language, ideas, stories, ideas, myths, legends, religious beliefs, and ways of behaving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on-material Cultur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are the stories, traditions, beliefs, and opinions, passed down from one population to the next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Traditional Cultur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914400" y="22856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10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73e87"/>
                </a:solidFill>
                <a:latin typeface="Candara"/>
              </a:rPr>
              <a:t>are the stories, traditions, beliefs, and opinions shared by a large number of people, change frequently, and are 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en-US" sz="4100" spc="-1" strike="noStrike">
                <a:solidFill>
                  <a:srgbClr val="073e87"/>
                </a:solidFill>
                <a:latin typeface="Candara"/>
              </a:rPr>
              <a:t>often shared through the use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en-US" sz="4100" spc="-1" strike="noStrike">
                <a:solidFill>
                  <a:srgbClr val="073e87"/>
                </a:solidFill>
                <a:latin typeface="Candara"/>
              </a:rPr>
              <a:t>of technology.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Popular Cultur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is the culture shared by the majority in a population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Mainstream Cultur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is the culture of smaller groups (minority groups)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ontributing Cultur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01:12:47Z</dcterms:created>
  <dc:creator>ladmin</dc:creator>
  <dc:description/>
  <dc:language>en-US</dc:language>
  <cp:lastModifiedBy>ladmin</cp:lastModifiedBy>
  <dcterms:modified xsi:type="dcterms:W3CDTF">2014-11-13T01:36:38Z</dcterms:modified>
  <cp:revision>4</cp:revision>
  <dc:subject/>
  <dc:title>PowerPoint Presentation</dc:title>
</cp:coreProperties>
</file>